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C79E-D57F-44C1-87CF-E78A9D7D3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C57D-BA9C-4E31-ABB7-1D8F23C4B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5648-1443-4F9A-AC97-801705E8B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F41B-BD09-44BF-A148-D33F66F17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55D7-793A-498F-91FE-FC3CC91E1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8D50-C815-48F6-B835-3B2AB19C0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0DAD-1961-4986-BEAB-D1B441701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01B1-CBDE-4FE6-B664-30D375F65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D3E3-9245-4ECD-982B-BD3B80B52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E853-A134-4097-A0A3-8284CFED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2FC6-AFF9-40CC-A709-6C7F48E9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6F8F-2B12-4D39-AAAF-C6D26778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73CFA-5146-4C53-B254-8F33BCF1D4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93920" y="1987560"/>
            <a:ext cx="685800" cy="2178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PE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GOŠKE MOG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Ć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STI   I NAČINI OSTVAR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VANJ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U ŠKO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86280" y="2016000"/>
            <a:ext cx="241596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9999"/>
                </a:solidFill>
                <a:latin typeface="Times New Roman"/>
              </a:rPr>
              <a:t>PROGRAM PROFESIONALNE ORIJENTACIJ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999999"/>
                </a:solidFill>
                <a:latin typeface="Arial"/>
              </a:rPr>
              <a:t>za učenike/učenice i mlade</a:t>
            </a:r>
            <a:r>
              <a:rPr b="0" lang="sr-CS" sz="1200" spc="-1" strike="noStrike">
                <a:solidFill>
                  <a:srgbClr val="99999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72080" y="1978200"/>
            <a:ext cx="720720" cy="2189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K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LARIJ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Z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MLA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97080" y="2982960"/>
            <a:ext cx="234972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999999"/>
                </a:solidFill>
                <a:latin typeface="Arial"/>
              </a:rPr>
              <a:t>PROGRAM OBU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999999"/>
                </a:solidFill>
                <a:latin typeface="Arial"/>
              </a:rPr>
              <a:t>za multiplikat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76720" y="3933720"/>
            <a:ext cx="1828800" cy="38124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999999"/>
                </a:solidFill>
                <a:latin typeface="Arial"/>
              </a:rPr>
              <a:t>ODLU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4292640"/>
            <a:ext cx="2286000" cy="3808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999999"/>
                </a:solidFill>
                <a:latin typeface="Arial"/>
              </a:rPr>
              <a:t>REALNI SUSRE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1640" y="4653000"/>
            <a:ext cx="262908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999999"/>
                </a:solidFill>
                <a:latin typeface="Arial"/>
              </a:rPr>
              <a:t>PUTEVI OBRAZOVAN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56000" y="5013360"/>
            <a:ext cx="308592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100" spc="-1" strike="noStrike">
                <a:solidFill>
                  <a:srgbClr val="999999"/>
                </a:solidFill>
                <a:latin typeface="Arial"/>
              </a:rPr>
              <a:t>INFORMACIJE O ZANIMANJIMA I KARIJER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84360" y="5300640"/>
            <a:ext cx="3314880" cy="289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999999"/>
                </a:solidFill>
                <a:latin typeface="Arial"/>
              </a:rPr>
              <a:t>SAMOSPOZNA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7362200">
            <a:off x="1351080" y="4287240"/>
            <a:ext cx="2057400" cy="790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999999"/>
                </a:solidFill>
                <a:latin typeface="Arial"/>
              </a:rPr>
              <a:t>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3766200">
            <a:off x="5072040" y="4251240"/>
            <a:ext cx="2057400" cy="790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999999"/>
                </a:solidFill>
                <a:latin typeface="Arial"/>
              </a:rPr>
              <a:t>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56000" y="422100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62240" y="5194440"/>
            <a:ext cx="6120" cy="5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867280" y="4221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6300360" y="5175360"/>
            <a:ext cx="4680" cy="48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30360" y="5241960"/>
            <a:ext cx="1376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Arial"/>
              </a:rPr>
              <a:t>roditelj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589800" y="5430960"/>
            <a:ext cx="169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999999"/>
                </a:solidFill>
                <a:latin typeface="Arial"/>
              </a:rPr>
              <a:t>Mreža škola,NSZ, privre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557360"/>
            <a:ext cx="4968720" cy="388800"/>
          </a:xfrm>
          <a:prstGeom prst="rect">
            <a:avLst/>
          </a:prstGeom>
          <a:solidFill>
            <a:srgbClr val="fa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 na prela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sku u srednju škol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0800000">
            <a:off x="1042920" y="1125000"/>
            <a:ext cx="6408720" cy="432000"/>
          </a:xfrm>
          <a:prstGeom prst="flowChartManualOperation">
            <a:avLst/>
          </a:prstGeom>
          <a:solidFill>
            <a:srgbClr val="fe18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41280" y="1052640"/>
            <a:ext cx="880272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MATERIJALI ZA IMPLEMENTACIJU </a:t>
            </a:r>
            <a:br>
              <a:rPr sz="2400"/>
            </a:b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PROG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CAOTS5M5" descr=""/>
          <p:cNvPicPr/>
          <p:nvPr/>
        </p:nvPicPr>
        <p:blipFill>
          <a:blip r:embed="rId2"/>
          <a:stretch/>
        </p:blipFill>
        <p:spPr>
          <a:xfrm>
            <a:off x="6948360" y="3860640"/>
            <a:ext cx="1570320" cy="14623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 rot="21071400">
            <a:off x="755280" y="1915920"/>
            <a:ext cx="3735360" cy="15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Arial"/>
              </a:rPr>
              <a:t>PRIRUČNIK ZA RAD S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Arial"/>
              </a:rPr>
              <a:t>UČENICIMA/UČENICA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21071400">
            <a:off x="3347640" y="2997000"/>
            <a:ext cx="3325680" cy="15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Arial"/>
              </a:rPr>
              <a:t>PORTFOL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Arial"/>
              </a:rPr>
              <a:t>ZA UČENIKE/UČEN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24360" y="1773360"/>
            <a:ext cx="90504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OBU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3 D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920880" y="830160"/>
            <a:ext cx="696096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99"/>
                </a:solidFill>
                <a:latin typeface="Arial"/>
              </a:rPr>
              <a:t>CILJEVI OBUKE za PO</a:t>
            </a:r>
            <a:r>
              <a:rPr b="1" lang="sr-Latn-CS" sz="36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2280" y="1501920"/>
            <a:ext cx="6130800" cy="1228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Osposobljavanje za uspešnu primenu Programa PO sa učenicima/učenicama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 osnovnim školam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13200" y="2205000"/>
            <a:ext cx="6130800" cy="1228680"/>
          </a:xfrm>
          <a:prstGeom prst="ellipse">
            <a:avLst/>
          </a:prstGeom>
          <a:solidFill>
            <a:srgbClr val="f8ff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azvijanje kompetencija za osiguranje i dostizanje principa, ciljeva i standarda postignuća učenika u oblasti 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5280" y="3213000"/>
            <a:ext cx="6130800" cy="1359000"/>
          </a:xfrm>
          <a:prstGeom prst="ellipse">
            <a:avLst/>
          </a:prstGeom>
          <a:solidFill>
            <a:srgbClr val="cef6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azvijanje kompetencija roditelja učenika za pružanje podrške i pomoći učenicima u usmeravanju njihovog profesionalnog razvo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84360" y="4292640"/>
            <a:ext cx="6131160" cy="1160280"/>
          </a:xfrm>
          <a:prstGeom prst="ellipse">
            <a:avLst/>
          </a:prstGeom>
          <a:solidFill>
            <a:srgbClr val="c5ff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spostavljanje saradnje i partnerstva sa institucijama i ustanovama za uspešnu implementaciju program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71640" y="2492280"/>
            <a:ext cx="1057320" cy="914400"/>
          </a:xfrm>
          <a:custGeom>
            <a:avLst/>
            <a:gdLst>
              <a:gd name="textAreaLeft" fmla="*/ 241200 w 1057320"/>
              <a:gd name="textAreaRight" fmla="*/ 816120 w 10573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b8a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6680" y="3419640"/>
            <a:ext cx="1057320" cy="914400"/>
          </a:xfrm>
          <a:custGeom>
            <a:avLst/>
            <a:gdLst>
              <a:gd name="textAreaLeft" fmla="*/ 241200 w 1057320"/>
              <a:gd name="textAreaRight" fmla="*/ 816120 w 10573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b8a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4437000"/>
            <a:ext cx="1057320" cy="914400"/>
          </a:xfrm>
          <a:custGeom>
            <a:avLst/>
            <a:gdLst>
              <a:gd name="textAreaLeft" fmla="*/ 241200 w 1057320"/>
              <a:gd name="textAreaRight" fmla="*/ 816120 w 10573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b8a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25360" y="1353960"/>
            <a:ext cx="1057320" cy="914400"/>
          </a:xfrm>
          <a:custGeom>
            <a:avLst/>
            <a:gdLst>
              <a:gd name="textAreaLeft" fmla="*/ 241200 w 1057320"/>
              <a:gd name="textAreaRight" fmla="*/ 816120 w 10573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b8a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084720" y="4797360"/>
            <a:ext cx="28386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Osposobljavanje za praćen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čenika u procesu 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07920" y="865080"/>
            <a:ext cx="696132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SPECIFIČNI CILJE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39680" y="1428840"/>
            <a:ext cx="6961320" cy="47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7240" y="1498680"/>
            <a:ext cx="7778880" cy="62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azumevanje savremeno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koncepta P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kao multidimenzionaln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ocesne aktivn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95200" y="1068480"/>
            <a:ext cx="1057320" cy="914400"/>
          </a:xfrm>
          <a:custGeom>
            <a:avLst/>
            <a:gdLst>
              <a:gd name="textAreaLeft" fmla="*/ 241200 w 1057320"/>
              <a:gd name="textAreaRight" fmla="*/ 816120 w 10573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32000" y="2781360"/>
            <a:ext cx="2838240" cy="1577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evazilaženje razumevanj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karijere kao statič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kategori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 prihvatanje da je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celoživotni pro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716360" y="3357720"/>
            <a:ext cx="2838600" cy="1125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imena metoda, oblika 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tehnika rada 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nteraktivnim radionic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4360" y="2492280"/>
            <a:ext cx="820440" cy="617760"/>
          </a:xfrm>
          <a:custGeom>
            <a:avLst/>
            <a:gdLst>
              <a:gd name="textAreaLeft" fmla="*/ 187200 w 820440"/>
              <a:gd name="textAreaRight" fmla="*/ 633240 w 820440"/>
              <a:gd name="textAreaTop" fmla="*/ 140760 h 617760"/>
              <a:gd name="textAreaBottom" fmla="*/ 477000 h 617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11640" y="2924280"/>
            <a:ext cx="820800" cy="617400"/>
          </a:xfrm>
          <a:custGeom>
            <a:avLst/>
            <a:gdLst>
              <a:gd name="textAreaLeft" fmla="*/ 187200 w 820800"/>
              <a:gd name="textAreaRight" fmla="*/ 633600 w 820800"/>
              <a:gd name="textAreaTop" fmla="*/ 140760 h 617400"/>
              <a:gd name="textAreaBottom" fmla="*/ 476640 h 61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435640" y="4508640"/>
            <a:ext cx="820800" cy="617400"/>
          </a:xfrm>
          <a:custGeom>
            <a:avLst/>
            <a:gdLst>
              <a:gd name="textAreaLeft" fmla="*/ 187200 w 820800"/>
              <a:gd name="textAreaRight" fmla="*/ 633600 w 820800"/>
              <a:gd name="textAreaTop" fmla="*/ 140760 h 617400"/>
              <a:gd name="textAreaBottom" fmla="*/ 476640 h 61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39640" y="1052640"/>
            <a:ext cx="3732480" cy="968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azvijanje profesionalnih interesovan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čenika u skladu sa savremeni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omenama sveta r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620640"/>
            <a:ext cx="820800" cy="617760"/>
          </a:xfrm>
          <a:custGeom>
            <a:avLst/>
            <a:gdLst>
              <a:gd name="textAreaLeft" fmla="*/ 187200 w 820800"/>
              <a:gd name="textAreaRight" fmla="*/ 633600 w 820800"/>
              <a:gd name="textAreaTop" fmla="*/ 140760 h 617760"/>
              <a:gd name="textAreaBottom" fmla="*/ 477000 h 617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16000" y="2133720"/>
            <a:ext cx="3732120" cy="67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ključivanje rodtitelja/staratelja u proces PO učeni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4000" y="2133720"/>
            <a:ext cx="820440" cy="617400"/>
          </a:xfrm>
          <a:custGeom>
            <a:avLst/>
            <a:gdLst>
              <a:gd name="textAreaLeft" fmla="*/ 187200 w 820440"/>
              <a:gd name="textAreaRight" fmla="*/ 633240 w 820440"/>
              <a:gd name="textAreaTop" fmla="*/ 140760 h 617400"/>
              <a:gd name="textAreaBottom" fmla="*/ 476640 h 61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692360" y="2852640"/>
            <a:ext cx="3732120" cy="874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Saradnja sa vanškolsk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nstitucijama na lokalu u postizanj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ciljeva 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71640" y="2852640"/>
            <a:ext cx="820800" cy="617760"/>
          </a:xfrm>
          <a:custGeom>
            <a:avLst/>
            <a:gdLst>
              <a:gd name="textAreaLeft" fmla="*/ 187200 w 820800"/>
              <a:gd name="textAreaRight" fmla="*/ 633600 w 820800"/>
              <a:gd name="textAreaTop" fmla="*/ 140760 h 617760"/>
              <a:gd name="textAreaBottom" fmla="*/ 477000 h 617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780000" y="3789360"/>
            <a:ext cx="3732120" cy="1217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ad na umrežavanju na lokaln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 regionalnom nivou i to sa drug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školama i sa vanškolsk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nstitucij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059280" y="4005360"/>
            <a:ext cx="820440" cy="617400"/>
          </a:xfrm>
          <a:custGeom>
            <a:avLst/>
            <a:gdLst>
              <a:gd name="textAreaLeft" fmla="*/ 187200 w 820440"/>
              <a:gd name="textAreaRight" fmla="*/ 633240 w 820440"/>
              <a:gd name="textAreaTop" fmla="*/ 140760 h 617400"/>
              <a:gd name="textAreaBottom" fmla="*/ 476640 h 61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148360" y="5084640"/>
            <a:ext cx="3732120" cy="6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Korišćenje i razvijanje materijala iz Progr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356000" y="5013360"/>
            <a:ext cx="820800" cy="617400"/>
          </a:xfrm>
          <a:custGeom>
            <a:avLst/>
            <a:gdLst>
              <a:gd name="textAreaLeft" fmla="*/ 187200 w 820800"/>
              <a:gd name="textAreaRight" fmla="*/ 633600 w 820800"/>
              <a:gd name="textAreaTop" fmla="*/ 140760 h 617400"/>
              <a:gd name="textAreaBottom" fmla="*/ 476640 h 61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7446960" cy="8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DO IZBORA ISPRAVNOG PUTA OBRAZOVANJA I ODLUKE ZA ZANIMANJA – KROZ PET KORA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39320" y="2095200"/>
            <a:ext cx="6961320" cy="41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724280"/>
            <a:ext cx="3314880" cy="38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Arial"/>
              </a:rPr>
              <a:t>SAMOSPOZNA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5280" y="3933720"/>
            <a:ext cx="3085920" cy="449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999999"/>
                </a:solidFill>
                <a:latin typeface="Times New Roman"/>
              </a:rPr>
              <a:t>INFORMACIJE O ZANIMANJIMA I KARIJE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43280" y="3284640"/>
            <a:ext cx="262872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999999"/>
                </a:solidFill>
                <a:latin typeface="Arial"/>
              </a:rPr>
              <a:t>PUTEVI OBRAZOVAN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08360" y="2708280"/>
            <a:ext cx="2286000" cy="3808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999999"/>
                </a:solidFill>
                <a:latin typeface="Arial"/>
              </a:rPr>
              <a:t>REALNI SUSRE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2133720"/>
            <a:ext cx="1828800" cy="38088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999999"/>
                </a:solidFill>
                <a:latin typeface="Arial"/>
              </a:rPr>
              <a:t>ODLU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6760" y="3219480"/>
            <a:ext cx="130500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32000" y="1125000"/>
            <a:ext cx="6960960" cy="690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SAMOSPOZNA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564000" y="3933720"/>
            <a:ext cx="1682640" cy="15066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403280" y="1989000"/>
            <a:ext cx="2084400" cy="1017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Interesovan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1280" y="3068640"/>
            <a:ext cx="2084400" cy="1017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Arial"/>
              </a:rPr>
              <a:t>Vred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2205000"/>
            <a:ext cx="1515960" cy="1366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999999"/>
                </a:solidFill>
                <a:latin typeface="Comic Sans MS"/>
              </a:rPr>
              <a:t>Kakav/va s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999999"/>
                </a:solidFill>
                <a:latin typeface="Comic Sans MS"/>
              </a:rPr>
              <a:t> </a:t>
            </a:r>
            <a:r>
              <a:rPr b="1" lang="sr-Latn-CS" sz="1400" spc="-1" strike="noStrike">
                <a:solidFill>
                  <a:srgbClr val="999999"/>
                </a:solidFill>
                <a:latin typeface="Comic Sans MS"/>
              </a:rPr>
              <a:t>i kako m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999999"/>
                </a:solidFill>
                <a:latin typeface="Comic Sans MS"/>
              </a:rPr>
              <a:t>drugi vi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580000" y="2060640"/>
            <a:ext cx="2084400" cy="1017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Veštine 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sposob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443640" y="3213000"/>
            <a:ext cx="2084400" cy="1017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Očekivan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32000" y="4221000"/>
            <a:ext cx="2084400" cy="1017720"/>
          </a:xfrm>
          <a:prstGeom prst="ellipse">
            <a:avLst/>
          </a:prstGeom>
          <a:solidFill>
            <a:srgbClr val="e9f91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Timski r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435640" y="4437000"/>
            <a:ext cx="2084400" cy="1017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9999"/>
                </a:solidFill>
                <a:latin typeface="Comic Sans MS"/>
              </a:rPr>
              <a:t>Rad 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9999"/>
                </a:solidFill>
                <a:latin typeface="Comic Sans MS"/>
              </a:rPr>
              <a:t> </a:t>
            </a:r>
            <a:r>
              <a:rPr b="1" lang="sr-Latn-CS" sz="2000" spc="-1" strike="noStrike">
                <a:solidFill>
                  <a:srgbClr val="999999"/>
                </a:solidFill>
                <a:latin typeface="Comic Sans MS"/>
              </a:rPr>
              <a:t>roditelj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1557000"/>
            <a:ext cx="8037360" cy="600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INFORMACIJE  O  ZANIMANJIMA I KARIJ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radionice info" descr=""/>
          <p:cNvPicPr/>
          <p:nvPr/>
        </p:nvPicPr>
        <p:blipFill>
          <a:blip r:embed="rId2"/>
          <a:stretch/>
        </p:blipFill>
        <p:spPr>
          <a:xfrm>
            <a:off x="1633680" y="3075120"/>
            <a:ext cx="1825560" cy="10476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514760" y="2479680"/>
            <a:ext cx="2451240" cy="1177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Svet zaniman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56080" y="4297320"/>
            <a:ext cx="2451240" cy="1177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Putevi karij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79280" y="1341360"/>
            <a:ext cx="729612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UTEVI OBRAZOVAN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95280" y="2349360"/>
            <a:ext cx="1944720" cy="18957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796000" y="2205000"/>
            <a:ext cx="3030480" cy="170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Mreža ško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7596360" y="1773360"/>
            <a:ext cx="685800" cy="5522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2987640" y="4437000"/>
            <a:ext cx="2476440" cy="8859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2916360" y="2852640"/>
            <a:ext cx="2735280" cy="15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039680" y="1411200"/>
            <a:ext cx="6961320" cy="690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REALNI SUSRE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042920" y="2421000"/>
            <a:ext cx="3241800" cy="30258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643280" y="2852640"/>
            <a:ext cx="2873520" cy="1936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9999"/>
                </a:solidFill>
                <a:latin typeface="Comic Sans MS"/>
              </a:rPr>
              <a:t>Raspitivanja 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9999"/>
                </a:solidFill>
                <a:latin typeface="Comic Sans MS"/>
              </a:rPr>
              <a:t>i</a:t>
            </a: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sprobavanj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u svetu r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948360" y="2708280"/>
            <a:ext cx="7812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838160" y="1214280"/>
            <a:ext cx="6961320" cy="69084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ODLU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rofa na kompu" descr=""/>
          <p:cNvPicPr/>
          <p:nvPr/>
        </p:nvPicPr>
        <p:blipFill>
          <a:blip r:embed="rId2"/>
          <a:stretch/>
        </p:blipFill>
        <p:spPr>
          <a:xfrm>
            <a:off x="826920" y="2852640"/>
            <a:ext cx="962280" cy="1143000"/>
          </a:xfrm>
          <a:prstGeom prst="rect">
            <a:avLst/>
          </a:prstGeom>
          <a:ln w="0">
            <a:noFill/>
          </a:ln>
        </p:spPr>
      </p:pic>
      <p:pic>
        <p:nvPicPr>
          <p:cNvPr id="100" name="CA0DCXQ3" descr=""/>
          <p:cNvPicPr/>
          <p:nvPr/>
        </p:nvPicPr>
        <p:blipFill>
          <a:blip r:embed="rId3"/>
          <a:stretch/>
        </p:blipFill>
        <p:spPr>
          <a:xfrm>
            <a:off x="1042920" y="2276640"/>
            <a:ext cx="1050840" cy="6602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727440" y="2284560"/>
            <a:ext cx="3063960" cy="2441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Comic Sans MS"/>
              </a:rPr>
              <a:t>IZBOR ISPRAVNO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1" lang="sr-Latn-CS" sz="1400" spc="-1" strike="noStrike">
                <a:solidFill>
                  <a:srgbClr val="009999"/>
                </a:solidFill>
                <a:latin typeface="Comic Sans MS"/>
              </a:rPr>
              <a:t>PUTA OBRAZOVAN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Comic Sans MS"/>
              </a:rPr>
              <a:t>IZ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Comic Sans MS"/>
              </a:rPr>
              <a:t>ZANIMANJ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6443640" y="4292640"/>
            <a:ext cx="1757520" cy="16714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1908000" y="4149720"/>
            <a:ext cx="1495440" cy="14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24000" y="2106720"/>
            <a:ext cx="8640720" cy="34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nformisanje i saglasnost: nastavničkog veća, školskog odbora, saveta roditelj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jek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roskurikularni-integrativni pristup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č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s odeljenjske zajedn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čas vannastavnih aktivnost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/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fakultativn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a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zbornom predme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ezentacija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javljivanje zainteresovanih učen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baveštavanje roditel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rganizacija implementacije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ealizacija radionica sa učenicima 7. i 8. razre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zvo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napredjivanje programa: specijalizacij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meri dobre prak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aćenje, izveštavanje, evaluacija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042920" y="1268280"/>
            <a:ext cx="576900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9999"/>
                </a:solidFill>
                <a:latin typeface="Arial"/>
              </a:rPr>
              <a:t>PEDAGOŠKE MOGUĆNOSTI U OSNOVNIM ŠKOL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451640" y="1197000"/>
            <a:ext cx="11718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68360" y="1268280"/>
            <a:ext cx="78166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9999"/>
                </a:solidFill>
                <a:latin typeface="Arial"/>
              </a:rPr>
              <a:t>PODRŠKA, SARADNICI, OSLONCI</a:t>
            </a:r>
            <a:r>
              <a:rPr b="1" lang="sr-Latn-CS" sz="3600" spc="-1" strike="noStrike">
                <a:solidFill>
                  <a:srgbClr val="9999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39680" y="2106720"/>
            <a:ext cx="6961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inistarstvo prosvete i nauke MP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inistarstvo omladine i sporta 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oditel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reža šk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acionalna služba za zapošlja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ivre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intervju par" descr=""/>
          <p:cNvPicPr/>
          <p:nvPr/>
        </p:nvPicPr>
        <p:blipFill>
          <a:blip r:embed="rId2"/>
          <a:stretch/>
        </p:blipFill>
        <p:spPr>
          <a:xfrm>
            <a:off x="6227640" y="4365720"/>
            <a:ext cx="2324160" cy="10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3T20:53:43Z</dcterms:created>
  <dc:creator>marina</dc:creator>
  <dc:description/>
  <dc:language>en-US</dc:language>
  <cp:lastModifiedBy>WINDOWS XP</cp:lastModifiedBy>
  <dcterms:modified xsi:type="dcterms:W3CDTF">2012-02-07T11:58:21Z</dcterms:modified>
  <cp:revision>26</cp:revision>
  <dc:subject/>
  <dc:title>Slide 1</dc:title>
</cp:coreProperties>
</file>